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B61-CEF7-4F51-AEA0-AA726523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409-3A31-4A7D-B599-BD92455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3FF-5A3E-4A84-B168-B2EFA729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34D-018F-4B9B-AFAD-CB26A2E1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0D5-58E9-47AE-96E1-811919B3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8C4D-D272-40CA-A848-8CE0A14B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A8F2-2416-423E-8A26-E67A2B9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4AA3-6C22-4D66-92C6-1CFA4B3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703-A7BC-42D7-A823-C4B6A1A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FB8-3A1D-4F43-9AD6-7740E1F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584B-1D5F-4B2F-B7C5-32F2A5C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B21-D4BF-4763-95B4-1104D27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9DC-D07A-42EF-AB1E-A5E29F2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A61F-3FCC-470B-ACF8-BE839DC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2069-174E-4A6E-89E4-085CF5F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523-4435-4023-9281-7AAE00D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5E6-99B4-446B-AFA7-87338F7C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5ED0-2A24-478D-9EE5-1FE3B40F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5225-7E44-43E7-99E7-1E7860A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34DB-0DA2-4E3A-8EB1-E63308D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9EB0-8165-4D74-B606-F740589F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D481-028A-4121-B7FA-1186CD0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229-1DC1-4CA3-9B46-45B0EF3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32FC-C517-40F6-A70E-6CFA9CB7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C06F-279A-4A92-9F12-C9AF0EB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C2C2-77FC-492C-9021-35A8946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9E28-604F-4AB7-A497-7DDF70A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9594-AC48-4FFA-813C-314D9A9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9A59-1ED3-4F93-8932-7C43D788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C871-AEEF-43D3-951B-3DA602B6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988-502B-49D0-925A-55269BE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31F-9EBD-4B8B-8AF2-D5611735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C49-E173-4FFA-88E2-0F97ECF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E40-C444-44A2-9774-D76C093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A68-59C0-48BD-897F-8773E530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0DB-DD27-4D32-A5F5-1701C36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F41-D766-4A92-A7E6-1AF0E8A00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0E0-D391-486B-85DF-5EA13A483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1FB9-4F9D-4EFB-A555-7D686F4F1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60400" y="176040"/>
            <a:ext cx="558324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«ЮРИДИЧЕСКАЯ ТЕХНИКА ОТРАСЛЕВОГО ЗАКОНОДАТЕЛЬ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9120" y="252216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Юридическая техника как наука и учебн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ридическая техника – это наука, которая изучает методы и приемы правовой работы, такие как составление документов, разрешение юридических вопросов и т.д. Она также является учебной дисциплиной для студентов юридических специальностей. В рамках обучения студенты осваивают навыки правового анализа, разработки правовых актов и других инструментов, необходимых для успешной работы в юридическ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рия развития юридической техники общеобязательного государственного страхования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Юридическая техника (ЮТ) - система средств, правил и приемов подготовки и упорядочения правовых актов, применяемая в целях обеспечения их совершенства и повышения эффе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Основной объект юридической техники - текст правовых актов, информационное воплощение юридических предписаний. При их принятии важно учитывать, чтобы содержание таких предписаний (дух) и форма (буква) соответствовали друг другу, чтобы не было неясности, двусмысленн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ридическая техника признана структурировать правовой материал, совершенствовать язык правовых актов, делать его более понятным, точным и грамотным. Во многом именно уровень юридической техники символизирует определенный уровень правовой культуры конкретн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Юридический док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ридические документы – это официальные письменные акты, принимаемые в пределах компетенции уполномоченного органа, обладающие целевой ориентацией, особой формой фиксации юридических предписаний и реквизитами, предназначенные информационно опосредовать и выражать различного рода социальные связи правов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ециальные средства и приемы юридической тех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своей сути ряд технико-юридических приемов и средств имеют отношение к структуре права, иными словами, выступают в качестве таких приемов и средств, которые необходимы для создания архитектуры нормативных актов. Их специфика связана с тем, какое направление правовой документации располагается в центре внимания в данный момент. Речь идет о форме юридического изложения или форме документального выражения внешнего характера. На основании этого по своей сути ряд юридических приемов и средств допустимо разделить на два ключевых направления. Речь идет о юридическом воплощении воли законодателя и формальном выражении сути нормативных 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средств юридической техники первой группы свойственно выступать в качестве нематериальных форм, при помощи которых формируется право, иными словами, превращается в юридическую форму его суть интеллектуально-волевой и юридической направленности. В определенной мере это ряд типовых схем, которые дают возможность изменить волю законодателя в ряд определенных юридических норм, закрепленных в ряде правовых 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авотворческая юридическая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 правотворческой техникой понимается система правил и приемов подготовки проектов нормативных актов, обеспечивающих максимально полное и точное соответствие формы нормативных предписаний их содержанию, доступность, простоту и обозримость нормативного материала, исчерпывающий охват регулируемых вопросов. Основными чертами правотворческой техники являются: технические средства и технические оп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хника опубликования нормативно-правовых а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ля опубликования нормативных правовых актов в законодательстве установлены следующие пра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коны подлежат опубликованию в течение семи дней после их подписания Президентом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казы должны быть доведены до всеобщего сведения путём опубликования в течение 10 дней после их подпис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становления Правительства РФ подлежат официальному опубликованию не позднее 15 дней со дня их принятия, а при необходимости немедленного широкого их обнародования доводятся до всех граждан через СМИ безотлагат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домственные акты официально публикуются в течение 10 дней после их рег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фициальные источники опубликования — «Российская газета» или «Собрание законодательства Российской Федерац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же существуют неофициальные источники опублик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ы, требующие срочного и широкого обнародования, могут быть обнародованы по радио и телевидению, а также в Интерн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терпретационная техника юридическая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претационная юридическая техника – особая разновидность юридической техники, представляющая собой совокупность средств и способов, используемых в целях получения информации о содержании нормативного правового акта и при осуществлении деятельности по подготовке интерпретационного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авореализационная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 правореализаци-онной технологией следует понимать инструментарий правоприменительной и иной право - реализационной деятельности, используемый для оформления юридических решений - актов реализации права - с целью обеспечения эффективности правового регу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но заключить, что правореализационная юридическая техника включает в себя два блочных подразделения: правоприменительную технику и иную правореализационную тех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23-12-12T16:44:54Z</dcterms:modified>
  <cp:revision>601</cp:revision>
  <dc:subject/>
  <dc:title>Diapositiva 1</dc:title>
</cp:coreProperties>
</file>